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1EC4-E2C3-46FB-9A0B-1CE576EA0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E7B9-C278-480E-B30C-5D2498E3B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856D-7B12-40C1-BA4C-0F6712E21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C36C-62F2-40A8-907D-CEF55FD0A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567E2-BC48-47A7-B5D7-46EFE2B8F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78CF8-74D6-43C3-AA0F-AF674062D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8FF02-B841-4897-9575-37AE36CD1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85B6D-21AE-4053-B902-5496F00A4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03E6C-E366-447C-BAAF-1D62AE290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488CD-82AA-48AE-B277-63C816D76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4318D-788A-4804-B6EE-DBCA56E2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23F6-133E-43A7-B267-288C054B8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B7CA9-016F-42AD-B47F-A953945D7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2BFD1-7DBC-4189-8D77-7AA211E55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C1C3F-0B74-46C1-B946-83A73D246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FA3E6-979E-413B-B9C6-4150704C0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1D00B-F871-48A8-B50A-FB2A435C4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D0170-E2A4-4CCD-9AD7-567C73AE5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9076B-DBBD-42AA-BBB6-B96EDFB16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F2E70-BAFC-481C-8413-5F24361C6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E83C8-8E60-4380-BCBA-F833E6CE3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3D490-A2EA-4D6C-835E-8995363A7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C87A-54AD-4C6C-9625-2B03AC0BD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CDB5A-4D77-419A-A3FE-DB9D328DA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4550E-3D81-46EA-BC12-89763A88F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596FB-0EEA-4337-85C8-DD5FD0491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9CD3B-3ABF-42AC-B806-C5851473F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53233-F37D-4D2A-8791-F33002DF0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A9FA7-06BB-4700-AB65-904C21C7E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7755C-FE4B-4ECB-8BBA-13E030DEF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4B3FC-0ECA-48C5-860A-D5B3D55AE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0F6CA-4AB0-452E-B31B-B6260657C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A4622-886E-4795-8104-09D830894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6420-581F-47CB-96D1-D7180A68E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6D0B8-CC04-4E8C-B301-EE88B1644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1169E-6F51-4E8D-BB20-81AF8284C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40F88-5E82-4AB6-B179-92070CBE8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33EC4-3A80-4758-A9BB-4C891A07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E23A1-FF3E-46C4-A79E-6268633A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9909C-5039-4791-91BE-D666C9245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AF05A-24F4-4FB8-97B2-FE7096017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44FCB-2353-4F1F-AD39-F8BE4AD5D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3F74A-5A35-4156-955D-8EBBBEB99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5538A-F918-42F6-B97F-785124A0E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C08A-147E-4572-B61D-AE8FD7466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6A8F5-EFDD-4792-A334-5D2C3903B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8C6752-87F4-4383-AA78-FA88D9040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6A2FB4-2BFD-4B9C-95AF-EEC6785BE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E644B0-EE66-4143-A09D-CCD536FC8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E78FA8-C92F-483F-9C7C-12C9EA261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00C3CA-CF69-4F3F-9CCB-F6F736C5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A9FB6-CBB8-433D-A3ED-D78239AB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A24F74-A3BE-4A1B-AAC1-B45456C2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6B405A-1D51-4619-BB2A-4DC689799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EEB7A-6ECE-4CFF-B081-54FA85D5E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C505-DCE9-4CF0-AFED-6B7E009A5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26C02-E61F-4884-9A06-1C5DC50D1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65ED0F-C5B7-4843-82DB-68752E2A2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752AD3-94FE-4316-9B16-5F96AB058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CFC512-A534-47FB-887A-EAC4007BC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B519DA-D05D-4D10-A3B3-FBBCD6C2E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70915-918F-4007-BD6F-50CB106EA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BEC93A-03D4-4091-A07A-EEC16CCA6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84688F-279B-48F6-8F37-B8D752A7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6A627B-CF26-4EAB-A50B-A0ED30199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438D39-3FB3-420C-8A00-931A48B01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A49D-737C-4463-A26F-1619307C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C2B075-3EC4-4EEB-A2D2-F29E14EA0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1B3E94-70FE-414E-A351-628831F85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A72BB0-C13B-47A1-8231-94AA57D1D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C732C0-17EF-4B07-9DE8-D9D7E772E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9AA8F7-A863-42DD-A589-F62699617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F01059-3BBC-4CF0-939B-FBCEA6CA8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E93B64-BB08-4226-919D-0F8105E12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DA0AF0-8771-4ED3-AC4E-C263436F2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4DE867-AEE3-4181-A7E9-17DCCA679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99C391-E178-477F-800B-F8CDC631A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B5AB-F062-433B-9523-75E35093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38E5C3-DB64-48F5-8EA1-ABE0976B3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36B699-6D64-4F02-BD74-D16693D8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B78B15-0498-4B92-B2F0-36B2D7CAD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6AAE34-C4D4-4AF8-9F3E-9D4DDB66D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11D32E-B5D3-4EA8-9C7B-201DC7FEE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2B5C3A-7969-46E9-AA1D-A3D5507C6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B94DEF-B039-44CE-BF5E-D12397A09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52EC34-EC79-443E-B582-C5A9333BC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2B8F58-B117-4F46-ABBD-52919B0B3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7CD696-0803-4C65-9F78-EDEACBDA3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D833-DAA4-4581-A4B3-35ACB8CF8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2804F8-F6EC-427E-AEE9-230FBE753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92AB68-5BCA-4DED-88DA-82557EAD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3B92C6-8053-4DD6-BF17-03B99F431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DD6005-C5B0-4B19-AC1F-324F26F8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106B0C-24AD-4274-92BD-F652AA66E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D439D8-CB4A-4E88-BEAF-4AF3DDD9D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51C79B-D5A7-4B74-B573-5EECFF319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00603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0060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603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0060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603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0060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03b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7fb18"/>
                    </a:gs>
                    <a:gs pos="100000">
                      <a:srgbClr val="00603b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7fb18"/>
                    </a:gs>
                    <a:gs pos="100000">
                      <a:srgbClr val="753bc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53bcb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07fb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753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C5B5B-D80E-4B26-814A-00786C7CE67D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00603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0060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603b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00603b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07fb1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07fb1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E180A-FD18-4C75-BA5C-F45807680BC5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35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35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35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36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37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8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38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F4634-3841-4ABC-A191-616648D4C85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42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43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43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45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45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46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A50FA-06D1-45D8-BDB3-0CCC6361053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506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514" name="PlaceHolder 1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A3F86-DD21-4BB3-9E8F-E6400548D0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5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56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dt" idx="1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ftr" idx="1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A0639-7C6C-4CED-BC64-33AA60910F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2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603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2EDA5-7794-442B-A513-76A0DEE1B2C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6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647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649" name="PlaceHolder 1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629E1-D3FA-41B1-8D69-7F5C4BDA742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lexsey chernoff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838080" y="2257560"/>
            <a:ext cx="7932960" cy="38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Hola Madre y padre a hablar sobre vacation en Andor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2590560" y="228600"/>
            <a:ext cx="472428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Mi vacation la Andorra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subTitle"/>
          </p:nvPr>
        </p:nvSpPr>
        <p:spPr>
          <a:xfrm>
            <a:off x="167652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l hotel me fui es Andorra Cente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693" name="" descr="Andorra Center"/>
          <p:cNvPicPr/>
          <p:nvPr/>
        </p:nvPicPr>
        <p:blipFill>
          <a:blip r:embed="rId1"/>
          <a:stretch/>
        </p:blipFill>
        <p:spPr>
          <a:xfrm rot="1323000">
            <a:off x="5866920" y="1142640"/>
            <a:ext cx="2971800" cy="2133720"/>
          </a:xfrm>
          <a:prstGeom prst="rect">
            <a:avLst/>
          </a:prstGeom>
          <a:ln w="38160">
            <a:solidFill>
              <a:srgbClr val="2044f6"/>
            </a:solidFill>
            <a:miter/>
          </a:ln>
        </p:spPr>
      </p:pic>
      <p:pic>
        <p:nvPicPr>
          <p:cNvPr id="694" name="" descr=""/>
          <p:cNvPicPr/>
          <p:nvPr/>
        </p:nvPicPr>
        <p:blipFill>
          <a:blip r:embed="rId2"/>
          <a:stretch/>
        </p:blipFill>
        <p:spPr>
          <a:xfrm rot="20403000">
            <a:off x="609120" y="1142640"/>
            <a:ext cx="3314880" cy="2209680"/>
          </a:xfrm>
          <a:prstGeom prst="rect">
            <a:avLst/>
          </a:prstGeom>
          <a:ln w="28440">
            <a:solidFill>
              <a:srgbClr val="07fb18"/>
            </a:solidFill>
            <a:miter/>
          </a:ln>
        </p:spPr>
      </p:pic>
      <p:pic>
        <p:nvPicPr>
          <p:cNvPr id="695" name="" descr=""/>
          <p:cNvPicPr/>
          <p:nvPr/>
        </p:nvPicPr>
        <p:blipFill>
          <a:blip r:embed="rId3"/>
          <a:stretch/>
        </p:blipFill>
        <p:spPr>
          <a:xfrm>
            <a:off x="2590920" y="2590920"/>
            <a:ext cx="4991040" cy="180648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ola madre y padr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l hotel tiene una grande piscina y todo es muy grande. Las habitaciones son impresionantes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8" name=""/>
          <p:cNvSpPr/>
          <p:nvPr/>
        </p:nvSpPr>
        <p:spPr>
          <a:xfrm>
            <a:off x="152280" y="152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5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98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Querido madre y padr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oy hace tiempo bien y el sol brilla. Fui a la playa. La playa es excelente. Fui practicar el surfing con el mono. El surfing dur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01" name="" descr=""/>
          <p:cNvPicPr/>
          <p:nvPr/>
        </p:nvPicPr>
        <p:blipFill>
          <a:blip r:embed="rId1"/>
          <a:stretch/>
        </p:blipFill>
        <p:spPr>
          <a:xfrm>
            <a:off x="838080" y="3733920"/>
            <a:ext cx="285768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ola Joh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y es gran. Yo relajarse en la playa. Yo se un quemadurad el sol. Lo dano muco en mi cuerpo. Hasta luego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8T14:01:32Z</dcterms:created>
  <dc:creator>chernoffale</dc:creator>
  <dc:description/>
  <dc:language>en-US</dc:language>
  <cp:lastModifiedBy>chernoffale</cp:lastModifiedBy>
  <dcterms:modified xsi:type="dcterms:W3CDTF">2011-11-30T14:26:14Z</dcterms:modified>
  <cp:revision>15</cp:revision>
  <dc:subject/>
  <dc:title>hotel</dc:title>
</cp:coreProperties>
</file>